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7DE-822B-4143-BC76-F94BA8D8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F95-B258-4776-8999-27CC9D35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D2C-455F-4FB6-87BF-A72BED01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0B0-F938-43DA-BE57-5FA7C3A8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04A-A33E-42C5-A16C-229BD03E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E99-CC71-4510-B99E-39D620A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40A-AC7A-4F17-90DC-94918A0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B2A-71D8-4A2F-A686-C4B609F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5EF-469E-4585-AADC-F1744931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051-92B2-4DD7-823B-3E832AA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DA3-06AD-48F2-AB78-2E9B579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46A-E1A6-43BF-95A4-B65918E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A0F9-E3B6-4BFB-8971-F9E9D1548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lements of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63400">
            <a:off x="1295280" y="281916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L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5720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280" y="251460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7661" t="28129" r="28879" b="33381"/>
          <a:stretch/>
        </p:blipFill>
        <p:spPr>
          <a:xfrm>
            <a:off x="380880" y="762120"/>
            <a:ext cx="8458200" cy="5616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6535" t="27130" r="28879" b="33381"/>
          <a:stretch/>
        </p:blipFill>
        <p:spPr>
          <a:xfrm>
            <a:off x="909720" y="641520"/>
            <a:ext cx="7400880" cy="491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03160"/>
            <a:ext cx="6782040" cy="5079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98760" y="457200"/>
            <a:ext cx="4319640" cy="5715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731880"/>
            <a:ext cx="5943600" cy="5535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04800"/>
            <a:ext cx="8534160" cy="384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647640"/>
            <a:ext cx="5639040" cy="5564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0:06Z</dcterms:created>
  <dc:creator>Patrick J. Mooney</dc:creator>
  <dc:description/>
  <dc:language>en-US</dc:language>
  <cp:lastModifiedBy>Patrick J. Mooney</cp:lastModifiedBy>
  <dcterms:modified xsi:type="dcterms:W3CDTF">2012-01-02T16:06:57Z</dcterms:modified>
  <cp:revision>6</cp:revision>
  <dc:subject/>
  <dc:title>Slide 1</dc:title>
</cp:coreProperties>
</file>